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D80C5-7A3B-4AA5-9DC0-79823F6E65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B7302-CDAD-4513-9567-1522A71660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CAA38-F55B-4959-8771-3D180F3600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1ABF7-E98A-4D47-A9A2-777B6D6795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8B96A-CC7B-4D61-9A4B-363DD4B3FC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64605-56E6-474E-BCE3-61B1E1EC99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D8FAE-97B1-4649-BECB-19C005855D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4407E-DC99-4A1C-9DAF-B8E7A2E76F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05230-78B0-4D39-8D21-522E4296F0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2AFD3-AC12-40CE-9C3C-2194DD22D8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1B804-B910-41CB-B172-9986F1AD43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D5A50-69C6-432B-9256-957E26DEC3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5f5f5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d2d5de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cd0505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d04a6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3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d04a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d04a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312372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0949AF1-35E9-416F-9BDD-29CC8FB139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/ 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87005" t="8165" r="373" b="84672"/>
          <a:stretch/>
        </p:blipFill>
        <p:spPr>
          <a:xfrm>
            <a:off x="8120160" y="6407280"/>
            <a:ext cx="961920" cy="40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d04a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cd0505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cd0505"/>
              </a:solidFill>
              <a:latin typeface="Arial Black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87005" t="8165" r="373" b="84672"/>
          <a:stretch/>
        </p:blipFill>
        <p:spPr>
          <a:xfrm>
            <a:off x="8120160" y="6407280"/>
            <a:ext cx="961920" cy="409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d0505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4a60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cd0505"/>
                </a:solidFill>
                <a:latin typeface="Arial Black"/>
              </a:rPr>
              <a:t>Oracle Academy</a:t>
            </a:r>
            <a:endParaRPr b="0" i="1" lang="en-US" sz="41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Normalizatio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40640" y="4952880"/>
            <a:ext cx="348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f. Carmen Popes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acle Academy Lead Adjun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Third Normal Form</a:t>
            </a:r>
            <a:br>
              <a:rPr sz="3300"/>
            </a:b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Section 7 – Lesson 2</a:t>
            </a: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4151160"/>
            <a:ext cx="786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1360" y="1905120"/>
            <a:ext cx="8169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ul obtinut anterior este deja in forma normala 3. Dar daca dorim sa adaugam informatii suplimentare despre profesor: adresa, numar de telefon, email etc. obtinem urmatorul ERD care nu este in forma normala 3, noile informatii depinzand doar de atributul teacher id care nu este UID-ul entitatii COUR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033640" y="3124080"/>
          <a:ext cx="4672080" cy="30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3640" y="3124080"/>
                    <a:ext cx="4672080" cy="30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209A6-3DC7-42ED-BBD9-7C7CB1F5200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Third Normal Form</a:t>
            </a:r>
            <a:br>
              <a:rPr sz="3300"/>
            </a:b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Section 7 – Lesson 2</a:t>
            </a: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130" name=""/>
          <p:cNvSpPr/>
          <p:nvPr/>
        </p:nvSpPr>
        <p:spPr>
          <a:xfrm>
            <a:off x="593640" y="4151160"/>
            <a:ext cx="786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41360" y="1905120"/>
            <a:ext cx="816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a: Introducem o noua entitate TEA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286000" y="2590920"/>
          <a:ext cx="4800600" cy="31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590920"/>
                    <a:ext cx="4800600" cy="31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54CFB-7427-4AB9-937E-FF9CB1AC437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Third Normal Form</a:t>
            </a:r>
            <a:br>
              <a:rPr sz="3300"/>
            </a:b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Section 7 – Lesson 2</a:t>
            </a: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135" name=""/>
          <p:cNvSpPr/>
          <p:nvPr/>
        </p:nvSpPr>
        <p:spPr>
          <a:xfrm>
            <a:off x="593640" y="4151160"/>
            <a:ext cx="786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41360" y="1905120"/>
            <a:ext cx="329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 obtinut o relatie menay-to-many care trebuie rezolva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454640" y="1905120"/>
          <a:ext cx="407988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54640" y="1905120"/>
                    <a:ext cx="407988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8D204-C698-4C28-B4B5-A5A8B427099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d0505"/>
                </a:solidFill>
                <a:latin typeface="Arial Black"/>
              </a:rPr>
              <a:t>Normalization Rules</a:t>
            </a: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220968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rmal Form Ru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5440" y="2666880"/>
            <a:ext cx="8084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Normal Form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attributes are single valu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Normal Form (2NF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ttribute must be dependent up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ity’s entire unique identifi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Normal Form (3NF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non-UID attribute can be depen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another non-UID attribu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2590920"/>
            <a:ext cx="7238880" cy="0"/>
          </a:xfrm>
          <a:prstGeom prst="line">
            <a:avLst/>
          </a:prstGeom>
          <a:ln w="12600">
            <a:solidFill>
              <a:srgbClr val="cd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700DB-E005-4E9F-A431-224BE35A2D9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First Normal Form</a:t>
            </a:r>
            <a:br>
              <a:rPr sz="3300"/>
            </a:b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Section 5 – Lesson 4</a:t>
            </a: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6960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5f5f5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o multivalued attributes and no repeating groups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5f5f5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ach attribute has a single value for each instance of the entit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5f5f5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f the attribute has multiple values, create an additional entity and relate it to the original entity with a m:1 relationship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0FDA6-B9BB-48D7-870C-BAE9A7D13D8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First Normal Form</a:t>
            </a:r>
            <a:br>
              <a:rPr sz="3300"/>
            </a:b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Section 5 – Lesson 4</a:t>
            </a: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91" name=""/>
          <p:cNvSpPr/>
          <p:nvPr/>
        </p:nvSpPr>
        <p:spPr>
          <a:xfrm>
            <a:off x="593640" y="4151160"/>
            <a:ext cx="786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41360" y="3809880"/>
            <a:ext cx="824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e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e se intampla daca se schimba regula facultatii si studentii p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a oricate note la un cur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e se intampla daca un student sau un profesor isi schimb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ele sau un student isi schimba adresa, trebuie sa modific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ste informatii in toate inregistrarile din BD unde ace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e ap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190512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- Deobicei, un student are mai multe note la acelasi cu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477120" y="1828800"/>
          <a:ext cx="1981080" cy="191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1828800"/>
                    <a:ext cx="1981080" cy="19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457200" y="25909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ianta 1: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locuim atributul grade cu atribute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de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de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de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ipoteza ca nu va exista nici un curs la care studentii primesc mai mult de 2 no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77FBB-29F5-409C-A411-9FEB2117214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First Normal Form</a:t>
            </a:r>
            <a:br>
              <a:rPr sz="3300"/>
            </a:b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Section 5 – Lesson 4</a:t>
            </a: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593640" y="4151160"/>
            <a:ext cx="786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205740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utia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em o noua entitate STUDENT si in care vom memora datele despre studenti iar in entitatea GRADE vom memora doar not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828800" y="3276720"/>
          <a:ext cx="5270400" cy="14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276720"/>
                    <a:ext cx="5270400" cy="14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03BE5-74AE-42D1-96C5-8E610CE3958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First Normal Form</a:t>
            </a:r>
            <a:br>
              <a:rPr sz="3300"/>
            </a:b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Section 5 – Lesson 4</a:t>
            </a: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593640" y="4151160"/>
            <a:ext cx="786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2057400"/>
            <a:ext cx="731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ID-ul unei note fiind compus din id-ul cursului si id-ul studentului inseamna ca aceasta combinatie trebuie sa fie unica. Deci nu avem voie sa avem doua inregistrari cu aceeasi pereche (course_id, student_id) adica un student poate avea o singura nota la o anumita materie… Dar daca instroducem in UID si data in care a fost data nota respectiva problema este rezolvata: un student nu poate primi 2 note la aceeasi materie in aceeasi zi (situatie destul de rezonabila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286000" y="4495680"/>
          <a:ext cx="5181480" cy="13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4495680"/>
                    <a:ext cx="5181480" cy="13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75E68-110F-459E-9E38-BFC17D1AAA1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Second Normal Form</a:t>
            </a:r>
            <a:br>
              <a:rPr sz="3300"/>
            </a:b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Section 6 – Lesson 5</a:t>
            </a: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108" name=""/>
          <p:cNvSpPr/>
          <p:nvPr/>
        </p:nvSpPr>
        <p:spPr>
          <a:xfrm>
            <a:off x="593640" y="4151160"/>
            <a:ext cx="786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43653" t="20759" r="2593" b="13211"/>
          <a:stretch/>
        </p:blipFill>
        <p:spPr>
          <a:xfrm>
            <a:off x="5257800" y="2286000"/>
            <a:ext cx="3276720" cy="30178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85800" y="2133720"/>
            <a:ext cx="434340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Normal Form requires that any non-UID attribute be dependent on the entire UID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f there are attributes that do not depend on the entire UID, those attributes should be moved to a new entit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5442C-9A0B-4FD2-A015-B997394B1B4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Second Normal Form</a:t>
            </a:r>
            <a:br>
              <a:rPr sz="3300"/>
            </a:b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Section 6 – Lesson 5</a:t>
            </a: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112" name=""/>
          <p:cNvSpPr/>
          <p:nvPr/>
        </p:nvSpPr>
        <p:spPr>
          <a:xfrm>
            <a:off x="593640" y="4151160"/>
            <a:ext cx="786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981080" y="2133720"/>
          <a:ext cx="5181840" cy="139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133720"/>
                    <a:ext cx="5181840" cy="13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365040" y="3897360"/>
            <a:ext cx="8245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entari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ID-ul entitatii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te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RSE ID + STUDENT 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da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RSE 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u depinde decat d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RSE 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u si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UDENT 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F668D-2C2A-44D1-9929-E504D0E079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Second Normal Form</a:t>
            </a:r>
            <a:br>
              <a:rPr sz="3300"/>
            </a:b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Section 6 – Lesson 5</a:t>
            </a: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117" name=""/>
          <p:cNvSpPr/>
          <p:nvPr/>
        </p:nvSpPr>
        <p:spPr>
          <a:xfrm>
            <a:off x="593640" y="4151160"/>
            <a:ext cx="786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7120" y="2120760"/>
            <a:ext cx="5285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lutia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ream inca o entitate: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UR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676520" y="3048120"/>
          <a:ext cx="5181480" cy="278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048120"/>
                    <a:ext cx="5181480" cy="27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11D13-67FB-45D3-951B-7816E7AC94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Third Normal Form</a:t>
            </a:r>
            <a:br>
              <a:rPr sz="3300"/>
            </a:br>
            <a:r>
              <a:rPr b="0" lang="en-US" sz="3300" spc="-1" strike="noStrike">
                <a:solidFill>
                  <a:srgbClr val="cd0505"/>
                </a:solidFill>
                <a:latin typeface="Arial Black"/>
              </a:rPr>
              <a:t>Section 7 – Lesson 2</a:t>
            </a:r>
            <a:endParaRPr b="0" lang="en-US" sz="3300" spc="-1" strike="noStrike">
              <a:solidFill>
                <a:srgbClr val="cd0505"/>
              </a:solidFill>
              <a:latin typeface="Arial Black"/>
            </a:endParaRPr>
          </a:p>
        </p:txBody>
      </p:sp>
      <p:sp>
        <p:nvSpPr>
          <p:cNvPr id="122" name=""/>
          <p:cNvSpPr/>
          <p:nvPr/>
        </p:nvSpPr>
        <p:spPr>
          <a:xfrm>
            <a:off x="593640" y="4151160"/>
            <a:ext cx="786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41360" y="2120760"/>
            <a:ext cx="809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ule of Third Normal Form states that no non-UID attribute can be dependent on another non-UID attribu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BFC60-7D84-410E-A9B8-E096D43855C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6T07:10:22Z</dcterms:created>
  <dc:creator>carmen</dc:creator>
  <dc:description/>
  <dc:language>en-US</dc:language>
  <cp:lastModifiedBy>kome</cp:lastModifiedBy>
  <dcterms:modified xsi:type="dcterms:W3CDTF">2007-09-18T17:38:50Z</dcterms:modified>
  <cp:revision>30</cp:revision>
  <dc:subject/>
  <dc:title>Oracle Academy</dc:title>
</cp:coreProperties>
</file>